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6843-EC1A-4038-B883-A1F78F81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A53-7081-4043-B997-EF2D2419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54AC-6727-4E6B-93DB-BBBC9D25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5BA7-BE19-4996-A41D-3DDCACB3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13B-C04B-4C50-95F4-916E4F16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4967-DCDF-4921-B005-F7753FED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2BE4-8762-43A0-9EC1-0B594FA9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D1F-7851-40FA-A18B-6D2EE4F4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906-638E-4539-AFCE-FF9AE52A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83B-0EE7-4A39-A66A-03C31C60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89F-5024-4C67-AE99-8E562F66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81EB-1111-48ED-8C8D-D9E81E1A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DD6C-043D-4205-8F8C-2243AE30B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34290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219320" y="380880"/>
            <a:ext cx="6552720" cy="6095880"/>
            <a:chOff x="1219320" y="380880"/>
            <a:chExt cx="6552720" cy="6095880"/>
          </a:xfrm>
        </p:grpSpPr>
        <p:grpSp>
          <p:nvGrpSpPr>
            <p:cNvPr id="43" name=""/>
            <p:cNvGrpSpPr/>
            <p:nvPr/>
          </p:nvGrpSpPr>
          <p:grpSpPr>
            <a:xfrm>
              <a:off x="1219320" y="380880"/>
              <a:ext cx="6552720" cy="6095880"/>
              <a:chOff x="1219320" y="380880"/>
              <a:chExt cx="6552720" cy="6095880"/>
            </a:xfrm>
          </p:grpSpPr>
          <p:pic>
            <p:nvPicPr>
              <p:cNvPr id="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7000" y="380880"/>
                <a:ext cx="6395040" cy="60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 rot="16200000">
                <a:off x="4615560" y="3205800"/>
                <a:ext cx="549360" cy="7102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219320" y="3286440"/>
                <a:ext cx="710280" cy="39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4572000" y="3708360"/>
              <a:ext cx="73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почат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2680" y="3327480"/>
              <a:ext cx="61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кінец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22:05:25Z</dcterms:created>
  <dc:creator>ChristaK</dc:creator>
  <dc:description/>
  <dc:language>en-US</dc:language>
  <cp:lastModifiedBy>ChristaK</cp:lastModifiedBy>
  <dcterms:modified xsi:type="dcterms:W3CDTF">2010-04-07T00:14:15Z</dcterms:modified>
  <cp:revision>3</cp:revision>
  <dc:subject/>
  <dc:title>Slide 1</dc:title>
</cp:coreProperties>
</file>