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B015F-6E72-4D4B-8A65-B15E27A67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7C476-846B-4FD6-BA3C-0C59167D1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CDFC9-C2EF-4A9E-932E-187AC6583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F4B0D-95F2-4DF9-99F6-3FBE82785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9F16A-52D5-4E1A-B154-6AC6A9A43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6B643-AE29-4669-B012-0F2B2A4A7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61DD9-C13A-4416-BE63-1E07561F8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E2699-3CF9-425E-A07C-F1D9A8C79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0B3C7-7AE1-43F6-9E13-06476E020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0A4FF-15AD-49ED-A017-6E7A1FAB4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A43BE-E44A-4854-8BBC-341C06A18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51C6A-B416-42AB-B3CB-5ADF330FF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5A97D-776D-4CE2-A088-3ADD3D37DD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5334120"/>
            <a:ext cx="8534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380880" y="1371600"/>
            <a:ext cx="8458200" cy="4010040"/>
            <a:chOff x="380880" y="1371600"/>
            <a:chExt cx="8458200" cy="4010040"/>
          </a:xfrm>
        </p:grpSpPr>
        <p:pic>
          <p:nvPicPr>
            <p:cNvPr id="43" name="" descr=""/>
            <p:cNvPicPr/>
            <p:nvPr/>
          </p:nvPicPr>
          <p:blipFill>
            <a:blip r:embed="rId1"/>
            <a:stretch/>
          </p:blipFill>
          <p:spPr>
            <a:xfrm>
              <a:off x="538200" y="1647720"/>
              <a:ext cx="8042400" cy="358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"/>
            <p:cNvSpPr/>
            <p:nvPr/>
          </p:nvSpPr>
          <p:spPr>
            <a:xfrm>
              <a:off x="380880" y="4836960"/>
              <a:ext cx="8458200" cy="544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80880" y="1371600"/>
              <a:ext cx="8305920" cy="825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Times New Roman"/>
                </a:rPr>
                <a:t>~~~~~~~~</a:t>
              </a:r>
              <a:r>
                <a:rPr b="0" lang="uk-UA" sz="4800" spc="-1" strike="noStrike">
                  <a:solidFill>
                    <a:srgbClr val="000000"/>
                  </a:solidFill>
                  <a:latin typeface="Times New Roman"/>
                </a:rPr>
                <a:t>12 різниці</a:t>
              </a:r>
              <a:r>
                <a:rPr b="0" lang="en-US" sz="4800" spc="-1" strike="noStrike">
                  <a:solidFill>
                    <a:srgbClr val="000000"/>
                  </a:solidFill>
                  <a:latin typeface="Times New Roman"/>
                </a:rPr>
                <a:t>~~~~~~~~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685800" y="-61920"/>
            <a:ext cx="184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621720" y="1386000"/>
            <a:ext cx="8293680" cy="3948120"/>
            <a:chOff x="621720" y="1386000"/>
            <a:chExt cx="8293680" cy="3948120"/>
          </a:xfrm>
        </p:grpSpPr>
        <p:grpSp>
          <p:nvGrpSpPr>
            <p:cNvPr id="48" name=""/>
            <p:cNvGrpSpPr/>
            <p:nvPr/>
          </p:nvGrpSpPr>
          <p:grpSpPr>
            <a:xfrm>
              <a:off x="685800" y="1676520"/>
              <a:ext cx="8229600" cy="3657600"/>
              <a:chOff x="685800" y="1676520"/>
              <a:chExt cx="8229600" cy="3657600"/>
            </a:xfrm>
          </p:grpSpPr>
          <p:pic>
            <p:nvPicPr>
              <p:cNvPr id="49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685800" y="1676520"/>
                <a:ext cx="7924680" cy="3555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" name=""/>
              <p:cNvSpPr/>
              <p:nvPr/>
            </p:nvSpPr>
            <p:spPr>
              <a:xfrm>
                <a:off x="685800" y="4800600"/>
                <a:ext cx="8229600" cy="533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621720" y="1386000"/>
              <a:ext cx="8071920" cy="825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Times New Roman"/>
                </a:rPr>
                <a:t>~~~~~~~~</a:t>
              </a:r>
              <a:r>
                <a:rPr b="0" lang="uk-UA" sz="4800" spc="-1" strike="noStrike">
                  <a:solidFill>
                    <a:srgbClr val="000000"/>
                  </a:solidFill>
                  <a:latin typeface="Times New Roman"/>
                </a:rPr>
                <a:t>12 різниці</a:t>
              </a:r>
              <a:r>
                <a:rPr b="0" lang="en-US" sz="4800" spc="-1" strike="noStrike">
                  <a:solidFill>
                    <a:srgbClr val="000000"/>
                  </a:solidFill>
                  <a:latin typeface="Times New Roman"/>
                </a:rPr>
                <a:t>~~~~~~~~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>
            <a:off x="457200" y="5043600"/>
            <a:ext cx="18432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648320" y="496728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228600" y="1157400"/>
            <a:ext cx="8686800" cy="4328640"/>
            <a:chOff x="228600" y="1157400"/>
            <a:chExt cx="8686800" cy="4328640"/>
          </a:xfrm>
        </p:grpSpPr>
        <p:grpSp>
          <p:nvGrpSpPr>
            <p:cNvPr id="55" name=""/>
            <p:cNvGrpSpPr/>
            <p:nvPr/>
          </p:nvGrpSpPr>
          <p:grpSpPr>
            <a:xfrm>
              <a:off x="304920" y="1447920"/>
              <a:ext cx="8458200" cy="4038120"/>
              <a:chOff x="304920" y="1447920"/>
              <a:chExt cx="8458200" cy="4038120"/>
            </a:xfrm>
          </p:grpSpPr>
          <p:pic>
            <p:nvPicPr>
              <p:cNvPr id="56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80520" y="1447920"/>
                <a:ext cx="8306640" cy="3690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" name=""/>
              <p:cNvSpPr/>
              <p:nvPr/>
            </p:nvSpPr>
            <p:spPr>
              <a:xfrm>
                <a:off x="304920" y="4738320"/>
                <a:ext cx="8458200" cy="747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228600" y="1157400"/>
              <a:ext cx="8686800" cy="825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Times New Roman"/>
                </a:rPr>
                <a:t>~~~~~~~~</a:t>
              </a:r>
              <a:r>
                <a:rPr b="0" lang="uk-UA" sz="4800" spc="-1" strike="noStrike">
                  <a:solidFill>
                    <a:srgbClr val="000000"/>
                  </a:solidFill>
                  <a:latin typeface="Times New Roman"/>
                </a:rPr>
                <a:t>12 різниці</a:t>
              </a:r>
              <a:r>
                <a:rPr b="0" lang="en-US" sz="4800" spc="-1" strike="noStrike">
                  <a:solidFill>
                    <a:srgbClr val="000000"/>
                  </a:solidFill>
                  <a:latin typeface="Times New Roman"/>
                </a:rPr>
                <a:t>~~~~~~~~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"/>
          <p:cNvGrpSpPr/>
          <p:nvPr/>
        </p:nvGrpSpPr>
        <p:grpSpPr>
          <a:xfrm>
            <a:off x="380880" y="1233360"/>
            <a:ext cx="8534520" cy="4100760"/>
            <a:chOff x="380880" y="1233360"/>
            <a:chExt cx="8534520" cy="4100760"/>
          </a:xfrm>
        </p:grpSpPr>
        <p:grpSp>
          <p:nvGrpSpPr>
            <p:cNvPr id="60" name=""/>
            <p:cNvGrpSpPr/>
            <p:nvPr/>
          </p:nvGrpSpPr>
          <p:grpSpPr>
            <a:xfrm>
              <a:off x="380880" y="1523880"/>
              <a:ext cx="8534520" cy="3810240"/>
              <a:chOff x="380880" y="1523880"/>
              <a:chExt cx="8534520" cy="3810240"/>
            </a:xfrm>
          </p:grpSpPr>
          <p:pic>
            <p:nvPicPr>
              <p:cNvPr id="61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457200" y="1523880"/>
                <a:ext cx="8305920" cy="3727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2" name=""/>
              <p:cNvSpPr/>
              <p:nvPr/>
            </p:nvSpPr>
            <p:spPr>
              <a:xfrm>
                <a:off x="380880" y="4800600"/>
                <a:ext cx="8534520" cy="533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" name=""/>
            <p:cNvSpPr/>
            <p:nvPr/>
          </p:nvSpPr>
          <p:spPr>
            <a:xfrm>
              <a:off x="380880" y="1233360"/>
              <a:ext cx="8534520" cy="825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Times New Roman"/>
                </a:rPr>
                <a:t>~~~~~~~~</a:t>
              </a:r>
              <a:r>
                <a:rPr b="0" lang="uk-UA" sz="4800" spc="-1" strike="noStrike">
                  <a:solidFill>
                    <a:srgbClr val="000000"/>
                  </a:solidFill>
                  <a:latin typeface="Times New Roman"/>
                </a:rPr>
                <a:t>12 різниці</a:t>
              </a:r>
              <a:r>
                <a:rPr b="0" lang="en-US" sz="4800" spc="-1" strike="noStrike">
                  <a:solidFill>
                    <a:srgbClr val="000000"/>
                  </a:solidFill>
                  <a:latin typeface="Times New Roman"/>
                </a:rPr>
                <a:t>~~~~~~~~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533520" y="1147680"/>
            <a:ext cx="8229600" cy="4033800"/>
            <a:chOff x="533520" y="1147680"/>
            <a:chExt cx="8229600" cy="4033800"/>
          </a:xfrm>
        </p:grpSpPr>
        <p:grpSp>
          <p:nvGrpSpPr>
            <p:cNvPr id="65" name=""/>
            <p:cNvGrpSpPr/>
            <p:nvPr/>
          </p:nvGrpSpPr>
          <p:grpSpPr>
            <a:xfrm>
              <a:off x="533520" y="1479600"/>
              <a:ext cx="8229600" cy="3701880"/>
              <a:chOff x="533520" y="1479600"/>
              <a:chExt cx="8229600" cy="3701880"/>
            </a:xfrm>
          </p:grpSpPr>
          <p:pic>
            <p:nvPicPr>
              <p:cNvPr id="66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609480" y="1479600"/>
                <a:ext cx="8077320" cy="3622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7" name=""/>
              <p:cNvSpPr/>
              <p:nvPr/>
            </p:nvSpPr>
            <p:spPr>
              <a:xfrm>
                <a:off x="533520" y="4647960"/>
                <a:ext cx="8229600" cy="533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8" name=""/>
            <p:cNvSpPr/>
            <p:nvPr/>
          </p:nvSpPr>
          <p:spPr>
            <a:xfrm>
              <a:off x="597960" y="1147680"/>
              <a:ext cx="8071920" cy="825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Times New Roman"/>
                </a:rPr>
                <a:t>~~~~~~~~</a:t>
              </a:r>
              <a:r>
                <a:rPr b="0" lang="uk-UA" sz="4800" spc="-1" strike="noStrike">
                  <a:solidFill>
                    <a:srgbClr val="000000"/>
                  </a:solidFill>
                  <a:latin typeface="Times New Roman"/>
                </a:rPr>
                <a:t>12 різниці</a:t>
              </a:r>
              <a:r>
                <a:rPr b="0" lang="en-US" sz="4800" spc="-1" strike="noStrike">
                  <a:solidFill>
                    <a:srgbClr val="000000"/>
                  </a:solidFill>
                  <a:latin typeface="Times New Roman"/>
                </a:rPr>
                <a:t>~~~~~~~~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4T01:30:12Z</dcterms:created>
  <dc:creator>ChristaK</dc:creator>
  <dc:description/>
  <dc:language>en-US</dc:language>
  <cp:lastModifiedBy>ChristaK</cp:lastModifiedBy>
  <dcterms:modified xsi:type="dcterms:W3CDTF">2010-03-24T01:53:04Z</dcterms:modified>
  <cp:revision>3</cp:revision>
  <dc:subject/>
  <dc:title>Slide 1</dc:title>
</cp:coreProperties>
</file>