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C06-19FE-4187-B8F7-80312A8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733-2800-4194-93E0-B349163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226-97D6-4383-8772-0706B09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770-AB4A-4F7D-8C43-056E066D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CED-FF5D-47B2-9B75-4DFFD76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8E7-07F6-4402-B57C-E4DBD74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66E-270F-41E6-9CF3-B9090D7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A1C-F8F7-439B-904F-1BBE6660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954-609A-4F94-A4A4-DFCF1D33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379-3A35-4983-B6E7-4837B86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DDD-6BE3-41B3-B9F5-D3B25F8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234-F466-4926-B091-5EC4DB4E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B8C-6760-4162-95FA-FA52C57F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70716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57200" y="0"/>
            <a:ext cx="7848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04920" y="8001000"/>
            <a:ext cx="746784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маранчеве     2 = філятове     3 = рожев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= сине      5 = червон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= зелене     7 = жовте     8 = бронз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571500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3504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13:27Z</dcterms:created>
  <dc:creator>ChristaK</dc:creator>
  <dc:description/>
  <dc:language>en-US</dc:language>
  <cp:lastModifiedBy>ChristaK</cp:lastModifiedBy>
  <dcterms:modified xsi:type="dcterms:W3CDTF">2010-04-07T00:36:09Z</dcterms:modified>
  <cp:revision>7</cp:revision>
  <dc:subject/>
  <dc:title>Slide 1</dc:title>
</cp:coreProperties>
</file>