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E34B-6B99-4A37-AAC0-FA73D1D19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6ADD-91AE-48D6-9D74-3C7ADCC69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A0F-E026-4639-90BA-E215DD6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3D5-CC09-4AB1-B6FF-0462461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987-F51C-4DE3-AD0A-3A90BC81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9B2-206E-4D1D-AE2E-E0BCF41C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2F8-43A2-45E6-8FB6-9645D06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2EE-237B-4C21-A994-43A758C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18F-D62D-4AAA-84F4-9710867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C25-59C8-4D85-B602-8148AC0E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DDB-BCC8-4A04-BFDE-DB2A010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A85-D971-418E-9F18-C518FF3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080-9CF3-44A9-864D-0F895985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A21-3189-4F03-B0C6-24FF260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E29-AB3E-447D-91CB-73F181F58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llkidsnetwork.com/mazes/images/maze-spider-web.jpg"/>
          <p:cNvPicPr/>
          <p:nvPr/>
        </p:nvPicPr>
        <p:blipFill>
          <a:blip r:embed="rId1"/>
          <a:stretch/>
        </p:blipFill>
        <p:spPr>
          <a:xfrm>
            <a:off x="76320" y="228600"/>
            <a:ext cx="6705360" cy="8508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255000" y="82440"/>
            <a:ext cx="393480" cy="32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можи павукові знайти дорогу додому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21:40:22Z</dcterms:created>
  <dc:creator>christak</dc:creator>
  <dc:description/>
  <dc:language>en-US</dc:language>
  <cp:lastModifiedBy>christak</cp:lastModifiedBy>
  <dcterms:modified xsi:type="dcterms:W3CDTF">2012-05-15T21:44:45Z</dcterms:modified>
  <cp:revision>1</cp:revision>
  <dc:subject/>
  <dc:title>Slide 1</dc:title>
</cp:coreProperties>
</file>