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825A-6B4A-4CDE-B2D0-AB9765F458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7CBF-2CDB-4D75-A59C-6486683900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93E4-7E79-48E9-A419-2E2393184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656C-CFEE-41FF-8A9C-11EB6916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85B4-6EED-4C8E-BEE2-59F4BE444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220F-6C53-41F9-9980-584CB143D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CF67-86D3-438C-ADEC-178F1911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ACDD-5839-4DC9-839A-6B427DED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AA52-9DB1-4A2D-A257-C1A97A1C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44B7-526B-412D-8407-D1B77E9E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1802-6870-4435-8BF1-169B0584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48FD-90F7-47D7-A66A-32FBDC8D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2377-7AD3-4073-ABC7-02ED2084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C8D6-8575-4180-B9CD-8621DB80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FAAD-FC91-46AB-9DAE-441056CECD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www.calvarywilliamsport.com/images/More_Than_Conquerors.gif"/>
          <p:cNvPicPr/>
          <p:nvPr/>
        </p:nvPicPr>
        <p:blipFill>
          <a:blip r:embed="rId1"/>
          <a:stretch/>
        </p:blipFill>
        <p:spPr>
          <a:xfrm>
            <a:off x="1295280" y="0"/>
            <a:ext cx="6705720" cy="69264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1145160" y="152280"/>
            <a:ext cx="782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почато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5491080" y="6324480"/>
            <a:ext cx="596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інец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21:46:09Z</dcterms:created>
  <dc:creator>christak</dc:creator>
  <dc:description/>
  <dc:language>en-US</dc:language>
  <cp:lastModifiedBy>christak</cp:lastModifiedBy>
  <dcterms:modified xsi:type="dcterms:W3CDTF">2012-05-15T21:48:52Z</dcterms:modified>
  <cp:revision>1</cp:revision>
  <dc:subject/>
  <dc:title>Slide 1</dc:title>
</cp:coreProperties>
</file>